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3B243-2047-4DF3-AD0B-3F4F29E6B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B9622-C17D-484B-B37C-3A2D969A6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B3270-E6A7-4EDE-B8A7-3265677FC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B3C03-6B2C-46B7-B826-38FFC8B21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C1579-5A2F-464A-B318-26A7D1934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5C8A8-CC4D-4394-94EC-75DB6E4D4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4359A-5B2B-4719-BBA2-A987306A1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EAD87-12F0-482D-BE82-892219852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28C71-94F0-4420-85E2-AE9323F7B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06400-5EEE-4F34-BDBB-78554E90D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F78BD-4089-4DB0-8A24-1F78DF7C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2BCDB-E846-4ACA-A8C7-610693865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4AFEF-0ACE-494A-A179-A7A4804A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7A321-217F-45A2-A13B-AE2BFCF7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F9BFE-7F2A-4013-90F4-3D003775F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B50F7-F82F-43A1-AF30-81821767F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0A7FB-B169-4883-9092-E5BA7EBB4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02498-DF9B-4F42-9987-F0F2F04C1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ADC60-FBEE-4D32-8423-0AF633A7A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BE6E7-E3E5-4D87-913F-4105BCA75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6F61D-B4B1-4A7E-9AC9-38D9E7480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2AD93-6CF7-4B97-BCDD-90C579E0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E9C90-4649-421C-8E09-0E948D2D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37F01-1BE4-45EA-AA35-5E83F047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71b0e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20201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313a1f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313a1f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252d17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2c351c"/>
                </a:gs>
                <a:gs pos="100000">
                  <a:srgbClr val="4e5d3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272f1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262d17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191e10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191e10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191e10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191e10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52d17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52d17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191e10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74AA6-DF43-4731-9AF8-FA69A0EA99D5}" type="slidenum">
              <a:rPr b="0" lang="ar-EG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a1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a1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2d17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71b0e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20201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313a1f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313a1f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252d17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2c351c"/>
                </a:gs>
                <a:gs pos="100000">
                  <a:srgbClr val="4e5d3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272f1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262d17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1e2413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1e2413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1e2413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1e2413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c351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c351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1e2413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428BF-7A84-46AF-A2C9-FA87D65BA558}" type="slidenum">
              <a:rPr b="0" lang="ar-EG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33cc33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00a1b2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33cc33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2d17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5400" spc="-1" strike="noStrike">
                <a:solidFill>
                  <a:srgbClr val="ffffcc"/>
                </a:solidFill>
                <a:latin typeface="Arial"/>
              </a:rPr>
              <a:t>هل تفضل أن تكون قائداً مميزاً؟؟؟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000" spc="-1" strike="noStrike">
                <a:solidFill>
                  <a:srgbClr val="ffffff"/>
                </a:solidFill>
                <a:latin typeface="Arial"/>
              </a:rPr>
              <a:t>إذاً</a:t>
            </a:r>
            <a:r>
              <a:rPr b="0" lang="ar-EG" sz="4000" spc="-1" strike="noStrike">
                <a:solidFill>
                  <a:srgbClr val="ffffff"/>
                </a:solidFill>
                <a:latin typeface="Arial"/>
              </a:rPr>
              <a:t>....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000" spc="-1" strike="noStrike">
                <a:solidFill>
                  <a:srgbClr val="ffffff"/>
                </a:solidFill>
                <a:latin typeface="Arial"/>
              </a:rPr>
              <a:t>أحرص على الاستفادة معنا .....اليوم</a:t>
            </a:r>
            <a:r>
              <a:rPr b="0" lang="ar-EG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"/>
          <p:cNvGrpSpPr/>
          <p:nvPr/>
        </p:nvGrpSpPr>
        <p:grpSpPr>
          <a:xfrm>
            <a:off x="52200" y="171360"/>
            <a:ext cx="8965800" cy="6510240"/>
            <a:chOff x="52200" y="171360"/>
            <a:chExt cx="8965800" cy="6510240"/>
          </a:xfrm>
        </p:grpSpPr>
        <p:sp>
          <p:nvSpPr>
            <p:cNvPr id="599" name="_s12345"/>
            <p:cNvSpPr/>
            <p:nvPr/>
          </p:nvSpPr>
          <p:spPr>
            <a:xfrm flipH="1" flipV="1">
              <a:off x="2888640" y="1850040"/>
              <a:ext cx="1101960" cy="1049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_s12344"/>
            <p:cNvSpPr/>
            <p:nvPr/>
          </p:nvSpPr>
          <p:spPr>
            <a:xfrm>
              <a:off x="1407600" y="668880"/>
              <a:ext cx="1869840" cy="130500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Honor him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_s12343"/>
            <p:cNvSpPr/>
            <p:nvPr/>
          </p:nvSpPr>
          <p:spPr>
            <a:xfrm flipH="1" flipV="1">
              <a:off x="1874520" y="2826360"/>
              <a:ext cx="1774440" cy="397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_s12342"/>
            <p:cNvSpPr/>
            <p:nvPr/>
          </p:nvSpPr>
          <p:spPr>
            <a:xfrm>
              <a:off x="52200" y="1969200"/>
              <a:ext cx="1870560" cy="130500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Communicate</a:t>
              </a: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With him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_s12341"/>
            <p:cNvSpPr/>
            <p:nvPr/>
          </p:nvSpPr>
          <p:spPr>
            <a:xfrm flipH="1">
              <a:off x="1877760" y="3626280"/>
              <a:ext cx="1771560" cy="404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_s12340"/>
            <p:cNvSpPr/>
            <p:nvPr/>
          </p:nvSpPr>
          <p:spPr>
            <a:xfrm>
              <a:off x="52200" y="3578760"/>
              <a:ext cx="1870560" cy="130500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Understand hi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uniquenes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_s12339"/>
            <p:cNvSpPr/>
            <p:nvPr/>
          </p:nvSpPr>
          <p:spPr>
            <a:xfrm flipH="1">
              <a:off x="2894760" y="3952440"/>
              <a:ext cx="1091880" cy="1052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_s12338"/>
            <p:cNvSpPr/>
            <p:nvPr/>
          </p:nvSpPr>
          <p:spPr>
            <a:xfrm>
              <a:off x="1407600" y="4881240"/>
              <a:ext cx="1869840" cy="130500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Open his eye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_s12337"/>
            <p:cNvSpPr/>
            <p:nvPr/>
          </p:nvSpPr>
          <p:spPr>
            <a:xfrm>
              <a:off x="4533480" y="4076640"/>
              <a:ext cx="6840" cy="1299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_s12336"/>
            <p:cNvSpPr/>
            <p:nvPr/>
          </p:nvSpPr>
          <p:spPr>
            <a:xfrm>
              <a:off x="3601800" y="5376600"/>
              <a:ext cx="1870560" cy="130500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Trust hi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abilitie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_s12335"/>
            <p:cNvSpPr/>
            <p:nvPr/>
          </p:nvSpPr>
          <p:spPr>
            <a:xfrm>
              <a:off x="5079960" y="3952440"/>
              <a:ext cx="1101960" cy="1050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_s12334"/>
            <p:cNvSpPr/>
            <p:nvPr/>
          </p:nvSpPr>
          <p:spPr>
            <a:xfrm>
              <a:off x="5792760" y="4879080"/>
              <a:ext cx="1870560" cy="1304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Never undermin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him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_s12333"/>
            <p:cNvSpPr/>
            <p:nvPr/>
          </p:nvSpPr>
          <p:spPr>
            <a:xfrm>
              <a:off x="5421240" y="3629160"/>
              <a:ext cx="1774440" cy="397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_s12332"/>
            <p:cNvSpPr/>
            <p:nvPr/>
          </p:nvSpPr>
          <p:spPr>
            <a:xfrm>
              <a:off x="7148160" y="3578760"/>
              <a:ext cx="1869840" cy="130500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Appreciate hi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effort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_s12331"/>
            <p:cNvSpPr/>
            <p:nvPr/>
          </p:nvSpPr>
          <p:spPr>
            <a:xfrm flipV="1">
              <a:off x="5421240" y="2821320"/>
              <a:ext cx="1770480" cy="404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_s12330"/>
            <p:cNvSpPr/>
            <p:nvPr/>
          </p:nvSpPr>
          <p:spPr>
            <a:xfrm>
              <a:off x="7148160" y="1969200"/>
              <a:ext cx="1869840" cy="130500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Motivate hi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desir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_s12329"/>
            <p:cNvSpPr/>
            <p:nvPr/>
          </p:nvSpPr>
          <p:spPr>
            <a:xfrm flipV="1">
              <a:off x="5083200" y="1847160"/>
              <a:ext cx="1091880" cy="1052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_s12328"/>
            <p:cNvSpPr/>
            <p:nvPr/>
          </p:nvSpPr>
          <p:spPr>
            <a:xfrm>
              <a:off x="5792760" y="666720"/>
              <a:ext cx="1870560" cy="1304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Understand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His feeling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_s12327"/>
            <p:cNvSpPr/>
            <p:nvPr/>
          </p:nvSpPr>
          <p:spPr>
            <a:xfrm flipV="1">
              <a:off x="4533480" y="1475640"/>
              <a:ext cx="0" cy="1299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_s12326"/>
            <p:cNvSpPr/>
            <p:nvPr/>
          </p:nvSpPr>
          <p:spPr>
            <a:xfrm>
              <a:off x="3598560" y="171360"/>
              <a:ext cx="1869840" cy="1304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Hear him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_s12325"/>
            <p:cNvSpPr/>
            <p:nvPr/>
          </p:nvSpPr>
          <p:spPr>
            <a:xfrm>
              <a:off x="3598560" y="2776320"/>
              <a:ext cx="1869840" cy="1304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Human touch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"/>
          <p:cNvGrpSpPr/>
          <p:nvPr/>
        </p:nvGrpSpPr>
        <p:grpSpPr>
          <a:xfrm>
            <a:off x="228600" y="1648800"/>
            <a:ext cx="8686440" cy="4700520"/>
            <a:chOff x="228600" y="1648800"/>
            <a:chExt cx="8686440" cy="4700520"/>
          </a:xfrm>
        </p:grpSpPr>
        <p:sp>
          <p:nvSpPr>
            <p:cNvPr id="621" name="_s13365"/>
            <p:cNvSpPr/>
            <p:nvPr/>
          </p:nvSpPr>
          <p:spPr>
            <a:xfrm flipV="1">
              <a:off x="3848040" y="1648440"/>
              <a:ext cx="1446840" cy="783720"/>
            </a:xfrm>
            <a:custGeom>
              <a:avLst/>
              <a:gdLst>
                <a:gd name="textAreaLeft" fmla="*/ 519120 w 1446840"/>
                <a:gd name="textAreaRight" fmla="*/ 927720 w 1446840"/>
                <a:gd name="textAreaTop" fmla="*/ 281160 h 783720"/>
                <a:gd name="textAreaBottom" fmla="*/ 50256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8f8c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رؤي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_s13366"/>
            <p:cNvSpPr/>
            <p:nvPr/>
          </p:nvSpPr>
          <p:spPr>
            <a:xfrm flipV="1">
              <a:off x="3123720" y="2432520"/>
              <a:ext cx="2895480" cy="783360"/>
            </a:xfrm>
            <a:custGeom>
              <a:avLst/>
              <a:gdLst>
                <a:gd name="textAreaLeft" fmla="*/ 636480 w 2895480"/>
                <a:gd name="textAreaRight" fmla="*/ 2259000 w 2895480"/>
                <a:gd name="textAreaTop" fmla="*/ 172080 h 783360"/>
                <a:gd name="textAreaBottom" fmla="*/ 611280 h 78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8f8c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عمل الجماعي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_s13367"/>
            <p:cNvSpPr/>
            <p:nvPr/>
          </p:nvSpPr>
          <p:spPr>
            <a:xfrm flipV="1">
              <a:off x="2400120" y="3215520"/>
              <a:ext cx="4342680" cy="783720"/>
            </a:xfrm>
            <a:custGeom>
              <a:avLst/>
              <a:gdLst>
                <a:gd name="textAreaLeft" fmla="*/ 753840 w 4342680"/>
                <a:gd name="textAreaRight" fmla="*/ 3588840 w 4342680"/>
                <a:gd name="textAreaTop" fmla="*/ 136080 h 783720"/>
                <a:gd name="textAreaBottom" fmla="*/ 64764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8f8c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تـحـدث الايـجــابــــي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_s13368"/>
            <p:cNvSpPr/>
            <p:nvPr/>
          </p:nvSpPr>
          <p:spPr>
            <a:xfrm flipV="1">
              <a:off x="1675800" y="3999240"/>
              <a:ext cx="5791320" cy="783720"/>
            </a:xfrm>
            <a:custGeom>
              <a:avLst/>
              <a:gdLst>
                <a:gd name="textAreaLeft" fmla="*/ 871200 w 5791320"/>
                <a:gd name="textAreaRight" fmla="*/ 4920120 w 5791320"/>
                <a:gd name="textAreaTop" fmla="*/ 117720 h 783720"/>
                <a:gd name="textAreaBottom" fmla="*/ 66600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8f8c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اسـتـمــاع الجــــــيـــــــد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_s13369"/>
            <p:cNvSpPr/>
            <p:nvPr/>
          </p:nvSpPr>
          <p:spPr>
            <a:xfrm flipV="1">
              <a:off x="952200" y="4782960"/>
              <a:ext cx="7238520" cy="783720"/>
            </a:xfrm>
            <a:custGeom>
              <a:avLst/>
              <a:gdLst>
                <a:gd name="textAreaLeft" fmla="*/ 988560 w 7238520"/>
                <a:gd name="textAreaRight" fmla="*/ 6249960 w 7238520"/>
                <a:gd name="textAreaTop" fmla="*/ 106920 h 783720"/>
                <a:gd name="textAreaBottom" fmla="*/ 67680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f8c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اتـــصــــال الغــيـر مـــبـــــاشر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_s13371"/>
            <p:cNvSpPr/>
            <p:nvPr/>
          </p:nvSpPr>
          <p:spPr>
            <a:xfrm flipV="1">
              <a:off x="228600" y="5567040"/>
              <a:ext cx="8686440" cy="781560"/>
            </a:xfrm>
            <a:custGeom>
              <a:avLst/>
              <a:gdLst>
                <a:gd name="textAreaLeft" fmla="*/ 1105920 w 8686440"/>
                <a:gd name="textAreaRight" fmla="*/ 7580520 w 8686440"/>
                <a:gd name="textAreaTop" fmla="*/ 99360 h 781560"/>
                <a:gd name="textAreaBottom" fmla="*/ 682200 h 78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00" y="21600"/>
                  </a:lnTo>
                  <a:lnTo>
                    <a:pt x="1800" y="21600"/>
                  </a:lnTo>
                  <a:close/>
                </a:path>
              </a:pathLst>
            </a:custGeom>
            <a:solidFill>
              <a:srgbClr val="8f8c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ـــــتــــــــحــــــــفـــــــــيــــــــــــــز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مميزات القائد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ثانياً: مهارات التفاوض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4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التفاوض: هو فن ينطوي على أعمال التخطيط والرقابة والتحليل التي يستخدمها طرفي التفاوض للوصول الى اتفاق يرضي كلا الطرفين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2" dur="50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متى تتم عملية التفاوض؟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عندما يشترك الطرفان في مصلحة واحد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يرغب الطرفان في التفاوض بحثاً عن وضع أفض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يتيقن الطرفان ان دخول المفاوضات حل أفضل من الجمود أو الصرا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2" name=""/>
          <p:cNvGrpSpPr/>
          <p:nvPr/>
        </p:nvGrpSpPr>
        <p:grpSpPr>
          <a:xfrm>
            <a:off x="228600" y="171360"/>
            <a:ext cx="8686440" cy="6512040"/>
            <a:chOff x="228600" y="171360"/>
            <a:chExt cx="8686440" cy="6512040"/>
          </a:xfrm>
        </p:grpSpPr>
        <p:sp>
          <p:nvSpPr>
            <p:cNvPr id="633" name="_s92183"/>
            <p:cNvSpPr/>
            <p:nvPr/>
          </p:nvSpPr>
          <p:spPr>
            <a:xfrm flipH="1" flipV="1">
              <a:off x="3037680" y="2276280"/>
              <a:ext cx="767880" cy="57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_s92182"/>
            <p:cNvSpPr/>
            <p:nvPr/>
          </p:nvSpPr>
          <p:spPr>
            <a:xfrm>
              <a:off x="1180440" y="885960"/>
              <a:ext cx="2171880" cy="1628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قانون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_s92181"/>
            <p:cNvSpPr/>
            <p:nvPr/>
          </p:nvSpPr>
          <p:spPr>
            <a:xfrm flipH="1">
              <a:off x="2402640" y="3426480"/>
              <a:ext cx="1085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_s92180"/>
            <p:cNvSpPr/>
            <p:nvPr/>
          </p:nvSpPr>
          <p:spPr>
            <a:xfrm>
              <a:off x="228600" y="2614320"/>
              <a:ext cx="2171160" cy="1628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ثقافة الخصم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_s92179"/>
            <p:cNvSpPr/>
            <p:nvPr/>
          </p:nvSpPr>
          <p:spPr>
            <a:xfrm flipH="1">
              <a:off x="3037680" y="4000680"/>
              <a:ext cx="767880" cy="57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_s92178"/>
            <p:cNvSpPr/>
            <p:nvPr/>
          </p:nvSpPr>
          <p:spPr>
            <a:xfrm>
              <a:off x="1184040" y="4340880"/>
              <a:ext cx="2171160" cy="1628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خلفية المشترك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للمتفاوضين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_s92177"/>
            <p:cNvSpPr/>
            <p:nvPr/>
          </p:nvSpPr>
          <p:spPr>
            <a:xfrm>
              <a:off x="4571640" y="4238640"/>
              <a:ext cx="0" cy="813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_s92176"/>
            <p:cNvSpPr/>
            <p:nvPr/>
          </p:nvSpPr>
          <p:spPr>
            <a:xfrm>
              <a:off x="3488760" y="5055120"/>
              <a:ext cx="2171880" cy="1628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دافع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_s92175"/>
            <p:cNvSpPr/>
            <p:nvPr/>
          </p:nvSpPr>
          <p:spPr>
            <a:xfrm>
              <a:off x="5337000" y="4000680"/>
              <a:ext cx="767880" cy="57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_s92174"/>
            <p:cNvSpPr/>
            <p:nvPr/>
          </p:nvSpPr>
          <p:spPr>
            <a:xfrm>
              <a:off x="5790600" y="4338720"/>
              <a:ext cx="2171880" cy="1628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بيئة المحيط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_s92173"/>
            <p:cNvSpPr/>
            <p:nvPr/>
          </p:nvSpPr>
          <p:spPr>
            <a:xfrm>
              <a:off x="5654520" y="3426480"/>
              <a:ext cx="1085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_s92172"/>
            <p:cNvSpPr/>
            <p:nvPr/>
          </p:nvSpPr>
          <p:spPr>
            <a:xfrm>
              <a:off x="6743160" y="2612160"/>
              <a:ext cx="2171880" cy="1628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موازين القوى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_s92171"/>
            <p:cNvSpPr/>
            <p:nvPr/>
          </p:nvSpPr>
          <p:spPr>
            <a:xfrm flipV="1">
              <a:off x="5337000" y="2276280"/>
              <a:ext cx="767880" cy="57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_s92170"/>
            <p:cNvSpPr/>
            <p:nvPr/>
          </p:nvSpPr>
          <p:spPr>
            <a:xfrm>
              <a:off x="5787720" y="885960"/>
              <a:ext cx="2171160" cy="1628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ترتيب المتطلبات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_s92169"/>
            <p:cNvSpPr/>
            <p:nvPr/>
          </p:nvSpPr>
          <p:spPr>
            <a:xfrm flipV="1">
              <a:off x="4571640" y="1799640"/>
              <a:ext cx="0" cy="813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_s92168"/>
            <p:cNvSpPr/>
            <p:nvPr/>
          </p:nvSpPr>
          <p:spPr>
            <a:xfrm>
              <a:off x="3485880" y="171360"/>
              <a:ext cx="2171160" cy="1628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أجند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_s92167"/>
            <p:cNvSpPr/>
            <p:nvPr/>
          </p:nvSpPr>
          <p:spPr>
            <a:xfrm>
              <a:off x="3485880" y="2614320"/>
              <a:ext cx="2171160" cy="1628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عوامل المؤثرة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في التفاو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الأشكال المختلفة للتفاوض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3809880" y="1066680"/>
            <a:ext cx="5334120" cy="1219320"/>
          </a:xfrm>
          <a:prstGeom prst="leftRightArrow">
            <a:avLst>
              <a:gd name="adj1" fmla="val 50000"/>
              <a:gd name="adj2" fmla="val 87088"/>
            </a:avLst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أنا أكسب......أنت تكس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886200" y="2819520"/>
            <a:ext cx="5029200" cy="1143000"/>
          </a:xfrm>
          <a:prstGeom prst="leftArrow">
            <a:avLst>
              <a:gd name="adj1" fmla="val 50000"/>
              <a:gd name="adj2" fmla="val 110000"/>
            </a:avLst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أنا أخسر.....أنت تكس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648320" y="4648320"/>
            <a:ext cx="4495680" cy="1143000"/>
          </a:xfrm>
          <a:prstGeom prst="rightArrow">
            <a:avLst>
              <a:gd name="adj1" fmla="val 50000"/>
              <a:gd name="adj2" fmla="val 98331"/>
            </a:avLst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أنا أكسب......أنت تخس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228600" y="2057400"/>
            <a:ext cx="3733920" cy="4495680"/>
          </a:xfrm>
          <a:prstGeom prst="irregularSeal1">
            <a:avLst/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أنا أخسر......أنا تخس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41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لضمان  تفاوض فعال عليك بـــ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تحديد هدف واستراتيجية التفاوض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أعمل بناء على الثق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قم بالبحث المتكام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انصت جيداً للطرف الآخ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ثق في كونك طرفاً رابحا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قيم جيداً الاختيارات المتاح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أعرف الأجندة الخفية للخص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421" dur="2000" fill="hold"/>
                                        <p:tgtEl>
                                          <p:spTgt spid="6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6000" spc="-1" strike="noStrike">
                <a:solidFill>
                  <a:srgbClr val="ffffcc"/>
                </a:solidFill>
                <a:latin typeface="Arial"/>
              </a:rPr>
              <a:t>شــكـــــراً لـــكـــــــم..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000" spc="-1" strike="noStrike">
                <a:solidFill>
                  <a:srgbClr val="ffffff"/>
                </a:solidFill>
                <a:latin typeface="Arial"/>
              </a:rPr>
              <a:t>وبكم نحن............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ctr" rtl="1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5400" spc="-1" strike="noStrike">
                <a:solidFill>
                  <a:srgbClr val="ffffff"/>
                </a:solidFill>
                <a:latin typeface="Arial"/>
              </a:rPr>
              <a:t>أفـضـــل مـــــن الأفــضــــــــل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5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5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5000" fill="hold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5000" fill="hold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5000" fill="hold"/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5000" fill="hold"/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8088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EG" sz="6000" spc="-1" strike="noStrike">
                <a:solidFill>
                  <a:srgbClr val="ffffcc"/>
                </a:solidFill>
                <a:latin typeface="Arial"/>
                <a:cs typeface="Andalus"/>
              </a:rPr>
              <a:t>مهارات القيادة وأسس التفاوض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أولاً: مهارات القيادة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r" rtl="1">
              <a:spcBef>
                <a:spcPts val="700"/>
              </a:spcBef>
              <a:buClr>
                <a:srgbClr val="00a1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ffffff"/>
                </a:solidFill>
                <a:latin typeface="Arial"/>
              </a:rPr>
              <a:t>هي عملية تحريك مجموعة من الناس بإتجاه محدد ومخطط وذلك بتحفيزهم على العمل بإختيارهم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a1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ffffff"/>
                </a:solidFill>
                <a:latin typeface="Arial"/>
              </a:rPr>
              <a:t>القيادة الناجحة:  هي التي تهدف إلى تحريك الناس في الإتجاه الذي يحقق مصالحهم على المدى البعيد وهي أيضاً بهدف التأثير في الآخري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EG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"/>
          <p:cNvGrpSpPr/>
          <p:nvPr/>
        </p:nvGrpSpPr>
        <p:grpSpPr>
          <a:xfrm>
            <a:off x="389880" y="169560"/>
            <a:ext cx="8363160" cy="5978160"/>
            <a:chOff x="389880" y="169560"/>
            <a:chExt cx="8363160" cy="5978160"/>
          </a:xfrm>
        </p:grpSpPr>
        <p:sp>
          <p:nvSpPr>
            <p:cNvPr id="520" name="_s6161"/>
            <p:cNvSpPr/>
            <p:nvPr/>
          </p:nvSpPr>
          <p:spPr>
            <a:xfrm flipH="1" flipV="1">
              <a:off x="2510640" y="2894040"/>
              <a:ext cx="1028520" cy="246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_s6160"/>
            <p:cNvSpPr/>
            <p:nvPr/>
          </p:nvSpPr>
          <p:spPr>
            <a:xfrm>
              <a:off x="389880" y="1836720"/>
              <a:ext cx="2171880" cy="1610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ثقة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_s6159"/>
            <p:cNvSpPr/>
            <p:nvPr/>
          </p:nvSpPr>
          <p:spPr>
            <a:xfrm flipH="1">
              <a:off x="3298320" y="4040280"/>
              <a:ext cx="634680" cy="649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_s6158"/>
            <p:cNvSpPr/>
            <p:nvPr/>
          </p:nvSpPr>
          <p:spPr>
            <a:xfrm>
              <a:off x="1571400" y="4537440"/>
              <a:ext cx="2171160" cy="1610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تحديد الأولويات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_s6157"/>
            <p:cNvSpPr/>
            <p:nvPr/>
          </p:nvSpPr>
          <p:spPr>
            <a:xfrm>
              <a:off x="5209560" y="4040280"/>
              <a:ext cx="638280" cy="649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_s6156"/>
            <p:cNvSpPr/>
            <p:nvPr/>
          </p:nvSpPr>
          <p:spPr>
            <a:xfrm>
              <a:off x="5400360" y="4537440"/>
              <a:ext cx="2171160" cy="1610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تنمية عوامل القو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_s6155"/>
            <p:cNvSpPr/>
            <p:nvPr/>
          </p:nvSpPr>
          <p:spPr>
            <a:xfrm flipV="1">
              <a:off x="5603400" y="2891160"/>
              <a:ext cx="1031400" cy="249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_s6154"/>
            <p:cNvSpPr/>
            <p:nvPr/>
          </p:nvSpPr>
          <p:spPr>
            <a:xfrm>
              <a:off x="6581160" y="1836720"/>
              <a:ext cx="2171880" cy="1610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تركيز على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انجازات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_s6153"/>
            <p:cNvSpPr/>
            <p:nvPr/>
          </p:nvSpPr>
          <p:spPr>
            <a:xfrm flipV="1">
              <a:off x="4571640" y="1780200"/>
              <a:ext cx="0" cy="804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_s6152"/>
            <p:cNvSpPr/>
            <p:nvPr/>
          </p:nvSpPr>
          <p:spPr>
            <a:xfrm>
              <a:off x="3485880" y="169560"/>
              <a:ext cx="2171160" cy="1610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تحكم في الوقت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_s6151"/>
            <p:cNvSpPr/>
            <p:nvPr/>
          </p:nvSpPr>
          <p:spPr>
            <a:xfrm>
              <a:off x="3485880" y="2585160"/>
              <a:ext cx="2171160" cy="1610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عناصر في القائد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 تجاه الأفراد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1" name=""/>
          <p:cNvGrpSpPr/>
          <p:nvPr/>
        </p:nvGrpSpPr>
        <p:grpSpPr>
          <a:xfrm>
            <a:off x="279000" y="171360"/>
            <a:ext cx="8587800" cy="6364800"/>
            <a:chOff x="279000" y="171360"/>
            <a:chExt cx="8587800" cy="6364800"/>
          </a:xfrm>
        </p:grpSpPr>
        <p:sp>
          <p:nvSpPr>
            <p:cNvPr id="532" name="_s7211"/>
            <p:cNvSpPr/>
            <p:nvPr/>
          </p:nvSpPr>
          <p:spPr>
            <a:xfrm flipH="1" flipV="1">
              <a:off x="3037680" y="2059920"/>
              <a:ext cx="907560" cy="80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_s7210"/>
            <p:cNvSpPr/>
            <p:nvPr/>
          </p:nvSpPr>
          <p:spPr>
            <a:xfrm>
              <a:off x="1428120" y="759600"/>
              <a:ext cx="1958760" cy="146916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قدرات الاداري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_s7209"/>
            <p:cNvSpPr/>
            <p:nvPr/>
          </p:nvSpPr>
          <p:spPr>
            <a:xfrm flipH="1" flipV="1">
              <a:off x="2224800" y="3119040"/>
              <a:ext cx="1390680" cy="183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_s7208"/>
            <p:cNvSpPr/>
            <p:nvPr/>
          </p:nvSpPr>
          <p:spPr>
            <a:xfrm>
              <a:off x="279000" y="2257560"/>
              <a:ext cx="1958760" cy="146844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ffffff"/>
                  </a:solidFill>
                  <a:latin typeface="Arial"/>
                </a:rPr>
                <a:t>مهارات الاتصال و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ffffff"/>
                  </a:solidFill>
                  <a:latin typeface="Arial"/>
                </a:rPr>
                <a:t>التخاطب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_s7207"/>
            <p:cNvSpPr/>
            <p:nvPr/>
          </p:nvSpPr>
          <p:spPr>
            <a:xfrm flipH="1">
              <a:off x="2510640" y="3793320"/>
              <a:ext cx="1222200" cy="530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_s7206"/>
            <p:cNvSpPr/>
            <p:nvPr/>
          </p:nvSpPr>
          <p:spPr>
            <a:xfrm>
              <a:off x="682200" y="3957480"/>
              <a:ext cx="1958760" cy="146916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تضحي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_s7205"/>
            <p:cNvSpPr/>
            <p:nvPr/>
          </p:nvSpPr>
          <p:spPr>
            <a:xfrm flipH="1">
              <a:off x="3762000" y="4112280"/>
              <a:ext cx="482040" cy="995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_s7204"/>
            <p:cNvSpPr/>
            <p:nvPr/>
          </p:nvSpPr>
          <p:spPr>
            <a:xfrm>
              <a:off x="2447640" y="5067000"/>
              <a:ext cx="1958760" cy="146916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حزم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_s7203"/>
            <p:cNvSpPr/>
            <p:nvPr/>
          </p:nvSpPr>
          <p:spPr>
            <a:xfrm>
              <a:off x="4907880" y="4109760"/>
              <a:ext cx="482760" cy="995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_s7202"/>
            <p:cNvSpPr/>
            <p:nvPr/>
          </p:nvSpPr>
          <p:spPr>
            <a:xfrm>
              <a:off x="4749480" y="5064840"/>
              <a:ext cx="1958760" cy="146916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طاقة والنشاط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_s7201"/>
            <p:cNvSpPr/>
            <p:nvPr/>
          </p:nvSpPr>
          <p:spPr>
            <a:xfrm>
              <a:off x="5416200" y="3788280"/>
              <a:ext cx="1222200" cy="530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_s7200"/>
            <p:cNvSpPr/>
            <p:nvPr/>
          </p:nvSpPr>
          <p:spPr>
            <a:xfrm>
              <a:off x="6511320" y="3952440"/>
              <a:ext cx="1958760" cy="146916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نضج والآراء الجيد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_s7199"/>
            <p:cNvSpPr/>
            <p:nvPr/>
          </p:nvSpPr>
          <p:spPr>
            <a:xfrm flipV="1">
              <a:off x="5530680" y="3114000"/>
              <a:ext cx="1389960" cy="183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_s7198"/>
            <p:cNvSpPr/>
            <p:nvPr/>
          </p:nvSpPr>
          <p:spPr>
            <a:xfrm>
              <a:off x="6908760" y="2252520"/>
              <a:ext cx="1958040" cy="146916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اخلا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_s7197"/>
            <p:cNvSpPr/>
            <p:nvPr/>
          </p:nvSpPr>
          <p:spPr>
            <a:xfrm flipV="1">
              <a:off x="5197320" y="2054520"/>
              <a:ext cx="907560" cy="81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_s7196"/>
            <p:cNvSpPr/>
            <p:nvPr/>
          </p:nvSpPr>
          <p:spPr>
            <a:xfrm>
              <a:off x="5756040" y="759600"/>
              <a:ext cx="1958760" cy="146916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شخصية القوي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_s7195"/>
            <p:cNvSpPr/>
            <p:nvPr/>
          </p:nvSpPr>
          <p:spPr>
            <a:xfrm flipV="1">
              <a:off x="4571640" y="1638000"/>
              <a:ext cx="0" cy="1056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_s7194"/>
            <p:cNvSpPr/>
            <p:nvPr/>
          </p:nvSpPr>
          <p:spPr>
            <a:xfrm>
              <a:off x="3593880" y="171360"/>
              <a:ext cx="1958760" cy="146916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شعور بأهمي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رسال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_s7193"/>
            <p:cNvSpPr/>
            <p:nvPr/>
          </p:nvSpPr>
          <p:spPr>
            <a:xfrm>
              <a:off x="3593880" y="2695320"/>
              <a:ext cx="1958760" cy="146916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صفات القائد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ناجح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250920" y="763560"/>
            <a:ext cx="8353440" cy="280656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5940360" y="620640"/>
            <a:ext cx="0" cy="2087640"/>
          </a:xfrm>
          <a:prstGeom prst="line">
            <a:avLst/>
          </a:prstGeom>
          <a:ln w="7632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987640" y="1627200"/>
            <a:ext cx="0" cy="2089080"/>
          </a:xfrm>
          <a:prstGeom prst="line">
            <a:avLst/>
          </a:prstGeom>
          <a:ln w="7632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940360" y="3067200"/>
            <a:ext cx="0" cy="649080"/>
          </a:xfrm>
          <a:prstGeom prst="line">
            <a:avLst/>
          </a:prstGeom>
          <a:ln w="7632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987640" y="619200"/>
            <a:ext cx="0" cy="647640"/>
          </a:xfrm>
          <a:prstGeom prst="line">
            <a:avLst/>
          </a:prstGeom>
          <a:ln w="7632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724360" y="260280"/>
            <a:ext cx="302436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179280" y="260280"/>
            <a:ext cx="295272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6012000" y="549360"/>
            <a:ext cx="792000" cy="0"/>
          </a:xfrm>
          <a:prstGeom prst="line">
            <a:avLst/>
          </a:prstGeom>
          <a:ln w="76320">
            <a:solidFill>
              <a:srgbClr val="d4d82a">
                <a:alpha val="7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885080" y="549360"/>
            <a:ext cx="792360" cy="12600"/>
          </a:xfrm>
          <a:prstGeom prst="line">
            <a:avLst/>
          </a:prstGeom>
          <a:ln w="76320">
            <a:solidFill>
              <a:srgbClr val="d4d82a">
                <a:alpha val="7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3098880" y="549360"/>
            <a:ext cx="792000" cy="0"/>
          </a:xfrm>
          <a:prstGeom prst="line">
            <a:avLst/>
          </a:prstGeom>
          <a:ln w="76320">
            <a:solidFill>
              <a:srgbClr val="d4d82a">
                <a:alpha val="7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971960" y="549360"/>
            <a:ext cx="792360" cy="12600"/>
          </a:xfrm>
          <a:prstGeom prst="line">
            <a:avLst/>
          </a:prstGeom>
          <a:ln w="76320">
            <a:solidFill>
              <a:srgbClr val="d4d82a">
                <a:alpha val="7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198000" y="549360"/>
            <a:ext cx="792360" cy="0"/>
          </a:xfrm>
          <a:prstGeom prst="line">
            <a:avLst/>
          </a:prstGeom>
          <a:ln w="76320">
            <a:solidFill>
              <a:srgbClr val="d4d82a">
                <a:alpha val="7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071800" y="549360"/>
            <a:ext cx="792000" cy="12600"/>
          </a:xfrm>
          <a:prstGeom prst="line">
            <a:avLst/>
          </a:prstGeom>
          <a:ln w="76320">
            <a:solidFill>
              <a:srgbClr val="d4d82a">
                <a:alpha val="7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203640" y="71280"/>
            <a:ext cx="2520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9999"/>
                </a:solidFill>
                <a:latin typeface="Verdana"/>
                <a:cs typeface="AdvertisingBold"/>
              </a:rPr>
              <a:t>أنماط القيادة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  <a:ea typeface="AdvertisingBol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588000" y="404640"/>
            <a:ext cx="15112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111111"/>
                </a:solidFill>
                <a:latin typeface="Verdana"/>
                <a:cs typeface="AdvertisingBold"/>
              </a:rPr>
              <a:t>التسلطى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687840" y="404640"/>
            <a:ext cx="15112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111111"/>
                </a:solidFill>
                <a:latin typeface="Verdana"/>
                <a:cs typeface="AdvertisingBold"/>
              </a:rPr>
              <a:t>الديمقراطى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747720" y="404640"/>
            <a:ext cx="15112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111111"/>
                </a:solidFill>
                <a:latin typeface="Verdana"/>
                <a:cs typeface="AdvertisingBold"/>
              </a:rPr>
              <a:t>الحــــــر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8244000" y="3716280"/>
            <a:ext cx="0" cy="43344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7164360" y="3716280"/>
            <a:ext cx="0" cy="43344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5940360" y="3716280"/>
            <a:ext cx="0" cy="43344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3000240" y="3716280"/>
            <a:ext cx="0" cy="43344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676440" y="3716280"/>
            <a:ext cx="0" cy="43344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1835280" y="3716280"/>
            <a:ext cx="0" cy="43344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4460760" y="3716280"/>
            <a:ext cx="0" cy="43344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740720" y="4292640"/>
            <a:ext cx="936720" cy="2160720"/>
          </a:xfrm>
          <a:prstGeom prst="rect">
            <a:avLst/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ائد يتخ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را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ويعلن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للمرؤوسين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588000" y="4292640"/>
            <a:ext cx="936720" cy="2160720"/>
          </a:xfrm>
          <a:prstGeom prst="rect">
            <a:avLst/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ائد يتخذ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را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ويقن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مرؤوسي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ب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364000" y="4292640"/>
            <a:ext cx="936720" cy="2160720"/>
          </a:xfrm>
          <a:prstGeom prst="rect">
            <a:avLst/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ائد يتخذ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را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ويناقش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م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مرؤوسي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995640" y="4292640"/>
            <a:ext cx="936720" cy="2160720"/>
          </a:xfrm>
          <a:prstGeom prst="rect">
            <a:avLst/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ائد يقترح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را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ويناقش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ويكون مستعد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لتغير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556000" y="4292640"/>
            <a:ext cx="936360" cy="2160720"/>
          </a:xfrm>
          <a:prstGeom prst="rect">
            <a:avLst/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ائد يعرض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مشكلة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ويتلق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قتراحات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مرؤوسي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ويتخذ القرا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403280" y="4292640"/>
            <a:ext cx="936720" cy="2160720"/>
          </a:xfrm>
          <a:prstGeom prst="rect">
            <a:avLst/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ائد يعرض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مشكلة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ويناقشه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ويفوض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مرؤوسي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في اتخا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را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79280" y="4292640"/>
            <a:ext cx="936720" cy="2160720"/>
          </a:xfrm>
          <a:prstGeom prst="rect">
            <a:avLst/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ائ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يفوض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سلطة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تخاذ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رار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للمرؤوسي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77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770" fill="hold"/>
                                        <p:tgtEl>
                                          <p:spTgt spid="5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" dur="77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77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770" fill="hold"/>
                                        <p:tgtEl>
                                          <p:spTgt spid="5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" dur="77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77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770" fill="hold"/>
                                        <p:tgtEl>
                                          <p:spTgt spid="5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77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770" fill="hold"/>
                                        <p:tgtEl>
                                          <p:spTgt spid="5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2" dur="77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" dur="77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77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" dur="770" fill="hold"/>
                                        <p:tgtEl>
                                          <p:spTgt spid="5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77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770" fill="hold"/>
                                        <p:tgtEl>
                                          <p:spTgt spid="5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" dur="77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77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770" fill="hold"/>
                                        <p:tgtEl>
                                          <p:spTgt spid="5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77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770" fill="hold"/>
                                        <p:tgtEl>
                                          <p:spTgt spid="5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77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77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" dur="770" fill="hold"/>
                                        <p:tgtEl>
                                          <p:spTgt spid="5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7" dur="77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9" dur="77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77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770" fill="hold"/>
                                        <p:tgtEl>
                                          <p:spTgt spid="5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6" dur="77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8" dur="77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77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" dur="770" fill="hold"/>
                                        <p:tgtEl>
                                          <p:spTgt spid="5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5" dur="77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7" dur="77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4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4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8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4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4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أنماط القائد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- الديموقراط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819520" y="2438280"/>
            <a:ext cx="601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L-Mateen"/>
              </a:rPr>
              <a:t> </a:t>
            </a: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L-Mateen"/>
              </a:rPr>
              <a:t>يستمع لآراء المرؤوسي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895480" y="3352680"/>
            <a:ext cx="601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L-Mateen"/>
              </a:rPr>
              <a:t> </a:t>
            </a: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L-Mateen"/>
              </a:rPr>
              <a:t>تسود فيه روح الفريق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819520" y="4191120"/>
            <a:ext cx="601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L-Mateen"/>
              </a:rPr>
              <a:t> </a:t>
            </a: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L-Mateen"/>
              </a:rPr>
              <a:t>القائد و احد من المجموع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3565440" cy="50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5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5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50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50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75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- الغير موجه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819520" y="2362320"/>
            <a:ext cx="601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L-Mateen"/>
              </a:rPr>
              <a:t> </a:t>
            </a: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L-Mateen"/>
              </a:rPr>
              <a:t>ليست هناك رقابة لصيق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819520" y="3200400"/>
            <a:ext cx="601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L-Mateen"/>
              </a:rPr>
              <a:t> </a:t>
            </a: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L-Mateen"/>
              </a:rPr>
              <a:t>القائد بعيد عن المجموع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111240" y="2209680"/>
            <a:ext cx="4537080" cy="402768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>
            <a:off x="2895480" y="1676520"/>
            <a:ext cx="601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L-Mateen"/>
              </a:rPr>
              <a:t> </a:t>
            </a: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L-Mateen"/>
              </a:rPr>
              <a:t>يترك الحبل على الغارب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260"/>
                            </p:stCondLst>
                            <p:childTnLst>
                              <p:par>
                                <p:cTn id="3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376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626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3</a:t>
            </a: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- الديكتاتوري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4648320" cy="498636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3132000" y="1523880"/>
            <a:ext cx="601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L-Mateen"/>
              </a:rPr>
              <a:t> </a:t>
            </a: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L-Mateen"/>
              </a:rPr>
              <a:t>لا يسمح بالمشاركة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132000" y="2438280"/>
            <a:ext cx="601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L-Mateen"/>
              </a:rPr>
              <a:t> </a:t>
            </a: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L-Mateen"/>
              </a:rPr>
              <a:t>القرارات فردية و فوقي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132000" y="3352680"/>
            <a:ext cx="601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L-Mateen"/>
              </a:rPr>
              <a:t> </a:t>
            </a: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L-Mateen"/>
              </a:rPr>
              <a:t>الرقابة لصيقة جداً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8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8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35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LADIATOR_2008</cp:lastModifiedBy>
  <dcterms:modified xsi:type="dcterms:W3CDTF">2009-04-19T12:31:10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